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FC4-D8C2-4DBC-8B6A-FBECD9B7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519-7618-4A21-8103-B4695D1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477-4C2A-4E66-8ADE-C2FE50FB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A8F-B9E8-40B5-923F-66EC8278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9318-8783-4271-B045-8C92A545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38FA-FB0C-4210-AF13-D00F180D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6286-6AE5-45D1-9F8D-20E8F759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8CF-D5A9-4185-8E01-FA52903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98C2-C381-4390-B97D-20F98946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A0DE-5093-4541-AEF4-80CFF311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26E1-9354-4E39-862C-AF2DDE2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293-8CC2-4ED6-AA34-A0B070D5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EE9D-345C-4C2C-924B-5899BF64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2A98-A53A-4FFC-86C6-397710B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B154-AD35-4424-AABE-28125189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29CF-1BC8-4A9F-B830-DE185B99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3F00-C596-4B7B-AF52-8B2B2956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D1B-FB01-44EA-AFF1-60EDDAE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7F3-5C7B-49C7-BC17-19CA192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834-BAA8-4A56-86D3-FF187422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3E3-C9CF-4F2B-B8B5-37EC568F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D4D-8E8F-4D92-8CC3-1D549E13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5A6-D94C-4B03-8CC6-5504CBE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2A2-9361-4429-804C-549A5CFF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C496-9919-4C0D-A62B-E202E39D410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EC4C-3382-4741-8195-1D283AF96E9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ur Feeling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289512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appy,    Sad,    Ang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1057320" cy="1114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1238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do you feel, and why…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At school your friend is playing with someone else, you want to play too, but they said, “We don’t won’t to play with you”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w do you fee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956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nt to Mc Donald’s Restaurant with your family.  You got a Happy Meal and a free toy. Your baby sister/brother lost their free toy.  So, your mom ask you to give your toy to your brother/sister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?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8672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</a:t>
            </a: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re playing outside with your friends. It was a hot day. Your mom brought a pitcher of Kool-aid to share with your friends.</a:t>
            </a: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 and wh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25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2767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316400" y="2703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4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00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52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9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Click on the icons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two things that made you ang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who or what made you feel sa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What did momma do to make you happ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334120" y="2286000"/>
            <a:ext cx="123804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105732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486400" y="56386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3352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5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1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4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09:51Z</dcterms:created>
  <dc:creator>Greenville Schools</dc:creator>
  <dc:description/>
  <dc:language>en-US</dc:language>
  <cp:lastModifiedBy>NA</cp:lastModifiedBy>
  <dcterms:modified xsi:type="dcterms:W3CDTF">2008-02-16T21:14:47Z</dcterms:modified>
  <cp:revision>7</cp:revision>
  <dc:subject/>
  <dc:title>Our Feelings</dc:title>
</cp:coreProperties>
</file>